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6.png" ContentType="image/png"/>
  <Override PartName="/ppt/media/image3.jpeg" ContentType="image/jpeg"/>
  <Override PartName="/ppt/media/image4.png" ContentType="image/png"/>
  <Override PartName="/ppt/media/image5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26517-6174-4F5C-A821-D7A3AEAC47E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8CB8-DAEC-405B-A93B-7F9BD001E48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81558-CB4E-4E5B-8B2B-D046C4BD09E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0D0B4-C156-488D-A2EC-B7E98723990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93B69-1EB8-4A6B-9E3B-CDA96B0E3F7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94F9E3-9262-4584-8879-082798B51E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462B8-63AD-453B-AB9B-6AC1BDFB4D7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E907-41CA-4591-845F-DC04BD1DCFD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E25E-AD2C-4005-ADF6-7B50616B732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F96AA-CF7A-4ADE-91A7-721B079D11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AEBC-21E3-44AA-ABC9-30C49DC5221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FB877-8C67-4045-841C-DC6B9540EF0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7F303-8738-4983-87A2-77F128FC5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F233-D85F-4BC2-93AB-5CA6B590C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46A0-7151-4ADF-863C-697671D1F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90CAD-CA23-4D9A-A86E-295D356B9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4168E-84E0-4C36-97A4-FA2E1EF4B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2DD3-1E20-4C14-B539-7C43B3C49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BA42-851B-4DA2-A2A3-D8657C1EE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76A-ECF9-4FC7-AACE-51692D63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1EBE-F66D-4F83-9DFB-A4F63B1E5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A6EB-9B72-4C56-8143-A92C3C94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CAC0-BE04-4C5C-9C5E-957CC64E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4FEF-8140-4561-ACA0-B2EC1DB1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2B65E-7552-46C6-BFE2-5938CA1C03C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8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" Target="slide1.xml"/><Relationship Id="rId11" Type="http://schemas.openxmlformats.org/officeDocument/2006/relationships/image" Target="../media/image3.jpeg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2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2.gif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30360" y="278136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деля литературы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«В гостях у сказки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А за ним – то народ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поёт, и орёт: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- Вот урод, так урод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Что за нос, что за рот!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откуда такое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ЧУДОВИЩ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9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2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4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7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0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3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3" descr=""/>
          <p:cNvPicPr/>
          <p:nvPr/>
        </p:nvPicPr>
        <p:blipFill>
          <a:blip r:embed="rId10"/>
          <a:stretch/>
        </p:blipFill>
        <p:spPr>
          <a:xfrm>
            <a:off x="2670120" y="789120"/>
            <a:ext cx="3732120" cy="527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0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6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2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5" dur="2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8" dur="21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олнце по небу гулял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И за тучку забежало.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Глянул заинька в окно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тало заиньке…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ТЕМНО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8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1" dur="2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4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0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3" dur="2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9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2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10"/>
          <a:stretch/>
        </p:blipFill>
        <p:spPr>
          <a:xfrm>
            <a:off x="2627280" y="808200"/>
            <a:ext cx="3673440" cy="52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9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2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1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97" dur="21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Свинки замяукали – 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яу – мяу,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шечки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ЗАХРЮКАЛИ, 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ХРЮ-ХРЮ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indefinite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7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3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5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1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5" descr=""/>
          <p:cNvPicPr/>
          <p:nvPr/>
        </p:nvPicPr>
        <p:blipFill>
          <a:blip r:embed="rId10"/>
          <a:stretch/>
        </p:blipFill>
        <p:spPr>
          <a:xfrm>
            <a:off x="2627280" y="941400"/>
            <a:ext cx="3816360" cy="49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nodeType="clickEffect" fill="hold">
                      <p:stCondLst>
                        <p:cond delay="0"/>
                      </p:stCondLst>
                      <p:childTnLst>
                        <p:par>
                          <p:cTn id="4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8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1" dur="2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3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6" dur="21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Творческое задание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9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5" dur="2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1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4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7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0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1680" y="135684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то это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2916360" y="2023920"/>
            <a:ext cx="3466800" cy="410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30360" y="1856880"/>
            <a:ext cx="78120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орней Иванович Чуковский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5" descr="200px-Chukovsky">
            <a:hlinkClick r:id="rId10" action="ppaction://hlinksldjump"/>
          </p:cNvPr>
          <p:cNvPicPr/>
          <p:nvPr/>
        </p:nvPicPr>
        <p:blipFill>
          <a:blip r:embed="rId11"/>
          <a:stretch/>
        </p:blipFill>
        <p:spPr>
          <a:xfrm>
            <a:off x="1042920" y="2370240"/>
            <a:ext cx="2540160" cy="3009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2"/>
          <p:cNvSpPr/>
          <p:nvPr/>
        </p:nvSpPr>
        <p:spPr>
          <a:xfrm>
            <a:off x="3597120" y="2338560"/>
            <a:ext cx="4143600" cy="34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984807"/>
                </a:solidFill>
                <a:latin typeface="Calibri"/>
              </a:rPr>
              <a:t>Родился 31 марта 1882 г. в Санкт-Петербурге. С детства увлекался поэзией, писал стихи и даже поэмы. Он любил писать сказки для детей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5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1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3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6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9" dur="2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Какие сказки Чуковского  вы знаете?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8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1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4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0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47720" y="292428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спомни, какими словами оканчивается строчка, и назови сказку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3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6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9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5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1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Веселится народ-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уха замуж идёт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За лихого, удалого</a:t>
            </a: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Молодого…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КОМАРА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6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89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2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"/>
          <p:cNvPicPr/>
          <p:nvPr/>
        </p:nvPicPr>
        <p:blipFill>
          <a:blip r:embed="rId10"/>
          <a:srcRect l="0" t="0" r="0" b="7503"/>
          <a:stretch/>
        </p:blipFill>
        <p:spPr>
          <a:xfrm>
            <a:off x="2708280" y="905040"/>
            <a:ext cx="3745080" cy="503064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0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5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8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0" dur="21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47720" y="3052800"/>
            <a:ext cx="7812000" cy="35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400"/>
            </a:br>
            <a:r>
              <a:rPr b="1" lang="ru-RU" sz="5400" spc="-1" strike="noStrike">
                <a:solidFill>
                  <a:srgbClr val="984807"/>
                </a:solidFill>
                <a:latin typeface="Calibri"/>
              </a:rPr>
              <a:t>Нет - нет! Соловей Не поёт для свиней Позови –ка лучше….</a:t>
            </a:r>
            <a:br>
              <a:rPr sz="5400"/>
            </a:br>
            <a:r>
              <a:rPr b="1" lang="ru-RU" sz="5400" spc="-1" strike="noStrike">
                <a:solidFill>
                  <a:srgbClr val="ff0000"/>
                </a:solidFill>
                <a:latin typeface="Calibri"/>
              </a:rPr>
              <a:t>ВОРОНУ!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0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2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1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7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2" descr="DD01021_"/>
          <p:cNvPicPr/>
          <p:nvPr/>
        </p:nvPicPr>
        <p:blipFill>
          <a:blip r:embed="rId1"/>
          <a:stretch/>
        </p:blipFill>
        <p:spPr>
          <a:xfrm>
            <a:off x="357120" y="214200"/>
            <a:ext cx="8358120" cy="6429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6ac6efb25e0a35d160b484086b39328b"/>
          <p:cNvPicPr/>
          <p:nvPr/>
        </p:nvPicPr>
        <p:blipFill>
          <a:blip r:embed="rId2"/>
          <a:stretch/>
        </p:blipFill>
        <p:spPr>
          <a:xfrm>
            <a:off x="21420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6" descr="6ac6efb25e0a35d160b484086b39328b"/>
          <p:cNvPicPr/>
          <p:nvPr/>
        </p:nvPicPr>
        <p:blipFill>
          <a:blip r:embed="rId3"/>
          <a:stretch/>
        </p:blipFill>
        <p:spPr>
          <a:xfrm>
            <a:off x="0" y="18572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6ac6efb25e0a35d160b484086b39328b"/>
          <p:cNvPicPr/>
          <p:nvPr/>
        </p:nvPicPr>
        <p:blipFill>
          <a:blip r:embed="rId4"/>
          <a:stretch/>
        </p:blipFill>
        <p:spPr>
          <a:xfrm>
            <a:off x="0" y="371484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6" descr="6ac6efb25e0a35d160b484086b39328b"/>
          <p:cNvPicPr/>
          <p:nvPr/>
        </p:nvPicPr>
        <p:blipFill>
          <a:blip r:embed="rId5"/>
          <a:stretch/>
        </p:blipFill>
        <p:spPr>
          <a:xfrm>
            <a:off x="214200" y="5643720"/>
            <a:ext cx="584280" cy="5839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6" descr="6ac6efb25e0a35d160b484086b39328b"/>
          <p:cNvPicPr/>
          <p:nvPr/>
        </p:nvPicPr>
        <p:blipFill>
          <a:blip r:embed="rId6"/>
          <a:stretch/>
        </p:blipFill>
        <p:spPr>
          <a:xfrm>
            <a:off x="8358120" y="21420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6" descr="6ac6efb25e0a35d160b484086b39328b"/>
          <p:cNvPicPr/>
          <p:nvPr/>
        </p:nvPicPr>
        <p:blipFill>
          <a:blip r:embed="rId7"/>
          <a:stretch/>
        </p:blipFill>
        <p:spPr>
          <a:xfrm>
            <a:off x="8559720" y="178596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6" descr="6ac6efb25e0a35d160b484086b39328b"/>
          <p:cNvPicPr/>
          <p:nvPr/>
        </p:nvPicPr>
        <p:blipFill>
          <a:blip r:embed="rId8"/>
          <a:stretch/>
        </p:blipFill>
        <p:spPr>
          <a:xfrm>
            <a:off x="8559720" y="378612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" descr="6ac6efb25e0a35d160b484086b39328b"/>
          <p:cNvPicPr/>
          <p:nvPr/>
        </p:nvPicPr>
        <p:blipFill>
          <a:blip r:embed="rId9"/>
          <a:stretch/>
        </p:blipFill>
        <p:spPr>
          <a:xfrm>
            <a:off x="8559720" y="5786280"/>
            <a:ext cx="584280" cy="584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5" descr=""/>
          <p:cNvPicPr/>
          <p:nvPr/>
        </p:nvPicPr>
        <p:blipFill>
          <a:blip r:embed="rId10"/>
          <a:srcRect l="0" t="0" r="0" b="6972"/>
          <a:stretch/>
        </p:blipFill>
        <p:spPr>
          <a:xfrm>
            <a:off x="2465280" y="803160"/>
            <a:ext cx="4141800" cy="5237280"/>
          </a:xfrm>
          <a:prstGeom prst="rect">
            <a:avLst/>
          </a:prstGeom>
          <a:ln w="38160">
            <a:solidFill>
              <a:srgbClr val="254061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nodeType="clickEffect" fill="hold">
                      <p:stCondLst>
                        <p:cond delay="0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0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3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6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79" dur="2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2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5:35:16Z</dcterms:created>
  <dc:creator>Светик</dc:creator>
  <dc:description/>
  <dc:language>en-US</dc:language>
  <cp:lastModifiedBy>Таня</cp:lastModifiedBy>
  <dcterms:modified xsi:type="dcterms:W3CDTF">2015-02-17T04:23:12Z</dcterms:modified>
  <cp:revision>74</cp:revision>
  <dc:subject/>
  <dc:title>Сказка К.Чуковского «Бармалей»</dc:title>
</cp:coreProperties>
</file>